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5F360-2E5F-4107-B329-35504C11E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29073-1B05-4131-83C2-904D73B2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174A3-AA2F-406E-B2D5-9A7E6448A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DEB1C-CE82-4BB6-B8B9-70063FE0D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6766-633C-47FD-8686-1760A62AD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DF030-8390-4302-9A61-1F89DD73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EB58-38F1-4C4E-B71A-F88AD221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6927-6D2E-4F4B-A800-464E79B5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0793-75CB-4233-BA4D-1941D278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585C-31F6-42CD-8C5D-3329C327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B35F-AC56-4EEA-A37D-CAFF29D2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BABCD-73AF-42D6-A497-40C97E6F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4A85-3A71-4877-9084-4E76CC62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A405-3EF6-4B1F-A347-F3A28BDC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766E-D872-4425-A5D1-7F89A1C9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D595-0E7B-40B7-8DDC-CB3C0BAE2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BDDF-A035-4486-9A58-907EC0A1A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575B3-D23D-474B-860E-B50E7C78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43C50-D344-4447-ACAC-0865893A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96045-4F87-437B-9768-1952F3CC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8F4A3-50DA-4777-8DEB-6BB3EA27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9A4B4-7529-48B7-9C0B-AADC2525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524FC-5D52-41FF-9B8A-3D42D390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EFCBA-3A23-40BA-ACDF-46856FD3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C9A0-936B-4098-AC7D-BCD8A30D39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0CF0-D082-42A9-9749-95D41E1AE2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2781000"/>
            <a:ext cx="91440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aramond"/>
              </a:rPr>
              <a:t>11,21-(38,418:0,3-4,8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ru-RU" sz="4800" spc="-1" strike="noStrike">
                <a:solidFill>
                  <a:srgbClr val="ffffff"/>
                </a:solidFill>
                <a:latin typeface="Garamond"/>
              </a:rPr>
              <a:t>11,6):11+13,79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6T04:51:14Z</dcterms:created>
  <dc:creator>Учитель</dc:creator>
  <dc:description/>
  <dc:language>en-US</dc:language>
  <cp:lastModifiedBy>Учитель</cp:lastModifiedBy>
  <dcterms:modified xsi:type="dcterms:W3CDTF">2013-01-16T04:57:36Z</dcterms:modified>
  <cp:revision>1</cp:revision>
  <dc:subject/>
  <dc:title>Слайд 1</dc:title>
</cp:coreProperties>
</file>